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CA11-95AC-4B0D-BB39-2AE506C8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50DF-84F1-4729-8846-7AAFE746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6564-C6A3-4514-BBB5-1DF71568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8E79-F266-4605-B32F-93A00CF6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0D50-B02B-4D51-B9B9-EB0FCFBE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5ABA-3798-4B4A-87B3-644AC9FB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2D1F-856E-4F4D-B2FE-52B6D20C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75A7-DD09-4D45-842F-95D3E4A2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976C-9B5B-4AB6-AC5F-68FA80BC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6DB1-D54F-43CC-8502-C8C23BB2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2A65-2018-4E88-9557-B84403F6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7D8E-9714-4077-86BD-F744E7C5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5139-20DE-4539-A67B-829EB4FD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2607-0C60-4C00-8A8B-8BBF64C8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CFE3-5AF6-4CD7-A2AB-9CCF2684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75C2-7030-4186-9365-A0E604ED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E923-6CB4-4742-8A4A-07FC0C67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49B8-226F-4964-ADAB-E2C3C2DC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AB79-6D8B-4121-BC89-62F048B3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E01D-1AEE-458A-9CFA-F04331FC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CEA2-27E1-4E26-B33F-558A9000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E732-612D-4008-917B-00DF317F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2DFA-401E-4842-B0BA-4C1BA05B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6B51-7501-4B9B-A408-50F290FE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1801-6B32-4845-AACC-F125252575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0755-C3EC-4DA2-933F-569A9D4CC7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0360" y="1758600"/>
            <a:ext cx="6872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Garamond"/>
              </a:rPr>
              <a:t>Декодирование графической информаци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ыполнил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рпова Ольг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марова Наст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ланова Дарь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31640" y="9079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Цель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ить особенности и способ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воения декодирова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фической информации детьми дошкольного возрас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Декодирование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–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чтение, определение и называние изображаемых объектов и их свойств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екодирование графической информаци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пределение, называние свойств изображаемых объектов и их частей (форма, величина, количество, пространственное расположение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Анализ графического состава изображений (виды линий, формы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онструирование объемных моделей по плоскостному изображению (чертежу, схеме, наглядному изображению, с использованием развертк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Определение, называние свойств изображаемых объектов и их частей (форма, величина, количество, пространственное расположение)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04556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ипы задани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Выделение главных существенных признаков, которые отличают объекты или делают их схожими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Выделение и называние заданных форм в графических изображений;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Поиск отличий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Выделение сходных деталей и группировка изображений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Анализ графического состава изображений (виды линий, формы)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ипы задани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Анализ (нахождение, называние) типов линий, использованных в изображении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Поиск отличий в сходных изображениях (по типам линий)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Группировка изображения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366840"/>
            <a:ext cx="70725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Конструирование объемных моделей по плоскостному изображению (чертежу, схеме, наглядному изображению, с использованием развертки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ипы задани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Конструирование  плоскостных моделей (аппликация, геометрические конструкторы, мозаики, палочки)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Объемных моделей(из бумаги, проволоки и др. материалов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4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4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4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Дополнительные </a:t>
            </a:r>
            <a:br>
              <a:rPr sz="40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ормы работы</a:t>
            </a:r>
            <a:r>
              <a:rPr b="0" i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03280" y="2205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пражн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ец. зад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огические задач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ные ситу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20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30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Литератур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арина Е.Ю. Секреты квадрата и куби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.Г. Гоголева Игры и упражнения для развития конструктивного и логического мышления у детей 4-7 л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геева С.И. Обучение с увлечением (1-2 части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.В. Колесникова Моделирование из геометрических фигу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. Соловьева Твое путешествие и мир геометри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. А. Панасенко Лабирин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аврина С.Е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звиваем мышл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2-23T14:25:29Z</dcterms:modified>
  <cp:revision>9</cp:revision>
  <dc:subject/>
  <dc:title>PowerPoint Presentation</dc:title>
</cp:coreProperties>
</file>